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013-6F0E-4A20-9C1B-90634979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CDE-DFE6-4343-8CC2-318FE701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CAA-1477-412C-8B20-F749B24A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C0B-9B81-42D6-974A-29368D00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E0B-FECD-465F-9659-95EB0DC5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CE5-A6F6-4AA9-AFF9-1509D62F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04B3-456F-4066-B0B3-5FD9585C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585D-BAA4-42FD-B267-44EE586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380A-D4ED-416F-9D7C-3EFFAF9B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6B80-EA59-49EA-8DD6-309483B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ECE7-0C3D-4FDF-88DF-8D27781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958-9A59-47DD-BB6B-95EF22AA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B76-0F71-4251-99E0-5B3A44ED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B011-E5A0-4D38-A1B5-5CD1A7A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419F-B502-4933-9877-B86D9A4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CBFC-D247-4E68-AF18-FFF30A5F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8E26-E2CF-4012-AE45-11DBA51A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800-9475-4234-8420-3B69B3FF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25E-79AD-42ED-B9CA-0F392D4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226-83BE-4D80-BBE4-7AE775B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283-1AEA-4FCD-A358-12423818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085-F6C7-4A77-B100-E40125F1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1C8-5ADA-4B38-9009-B3B404F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0B4-D49D-4EE5-AB8F-A2C5F9D5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439E-523B-4511-911D-D551C1997E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7F0-5ADE-432B-94BD-61989FDB0E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irees/46333112/in/photostrea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flickr.com/photos/irees/46333112/in/photostream/" TargetMode="External"/><Relationship Id="rId5" Type="http://schemas.openxmlformats.org/officeDocument/2006/relationships/hyperlink" Target="http://www.flickr.com/photos/irees/46333112/in/photostream/" TargetMode="External"/><Relationship Id="rId6" Type="http://schemas.openxmlformats.org/officeDocument/2006/relationships/hyperlink" Target="http://www.flickr.com/photos/irees/46333112/in/photostream/" TargetMode="External"/><Relationship Id="rId7" Type="http://schemas.openxmlformats.org/officeDocument/2006/relationships/hyperlink" Target="http://www.flickr.com/photos/irees/46333112/in/photostream/" TargetMode="External"/><Relationship Id="rId8" Type="http://schemas.openxmlformats.org/officeDocument/2006/relationships/hyperlink" Target="http://www.flickr.com/photos/irees/46333112/in/photostream/" TargetMode="External"/><Relationship Id="rId9" Type="http://schemas.openxmlformats.org/officeDocument/2006/relationships/hyperlink" Target="http://www.flickr.com/photos/irees/46333112/in/photostream/" TargetMode="External"/><Relationship Id="rId10" Type="http://schemas.openxmlformats.org/officeDocument/2006/relationships/hyperlink" Target="http://www.flickr.com/photos/irees/46333112/in/photostream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perks1/4116181146/" TargetMode="External"/><Relationship Id="rId2" Type="http://schemas.openxmlformats.org/officeDocument/2006/relationships/hyperlink" Target="http://www.flickr.com/photos/rperks1/4116181146/" TargetMode="External"/><Relationship Id="rId3" Type="http://schemas.openxmlformats.org/officeDocument/2006/relationships/hyperlink" Target="http://www.flickr.com/photos/rperks1/4116181146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Tech AV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Us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198108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051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 for Digital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2514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mmigrant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1981080"/>
            <a:ext cx="2514600" cy="568440"/>
          </a:xfrm>
          <a:prstGeom prst="rect">
            <a:avLst/>
          </a:prstGeom>
          <a:solidFill>
            <a:srgbClr val="67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atives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19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3782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5638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by W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6386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by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eB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3526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767ff"/>
                </a:solidFill>
                <a:latin typeface="Arial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entral Contr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u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/Off Volume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witch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09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ed Classroom Con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800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Image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by rperk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lean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81280" y="1904760"/>
            <a:ext cx="5105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y Laptop Conn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-in-One Media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381040" cy="226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2271600" cy="17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03:37Z</dcterms:created>
  <dc:creator>Carol Tracy</dc:creator>
  <dc:description/>
  <dc:language>en-US</dc:language>
  <cp:lastModifiedBy>Carol Tracy</cp:lastModifiedBy>
  <dcterms:modified xsi:type="dcterms:W3CDTF">2010-09-25T03:36:34Z</dcterms:modified>
  <cp:revision>3</cp:revision>
  <dc:subject/>
  <dc:title>High Tech AV  Designing for Usability  </dc:title>
</cp:coreProperties>
</file>