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4C0-9321-4988-B6F7-07C9C141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E09-7D0F-41A1-B50E-1F30801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DD5-FA9C-48AF-9A20-4B004255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791-00D4-448E-A70F-8AAB51CE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262E-BEF9-4B2D-A54A-B98651E9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8A3A-862D-4AF7-97EE-0BDF2442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357B-42F2-4147-B5AB-10A1E3C8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92C5-F1D9-4932-8F92-1ECC0BB4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AC6-D604-45B3-86C0-4991492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4A0-2B36-4BC8-844B-F98E2CC8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B79C-4F0F-4B4B-8AFE-3D1EEDBB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E76-B049-4D50-9AA2-66AEB777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9752-DC3D-4290-8EBE-1D41918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BCEE-0E8A-4E6A-92C2-9DECC2F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AE47-D53F-41B5-AD6D-3FAF02CE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852D-5897-40EF-9569-D8187BA0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EE62-6C65-427E-8D2E-099C680E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273-161D-495A-94A2-A93FA383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639-8F04-4235-AA58-06BC538C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11D-A3D2-47B8-9C45-2327477D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8A5-9856-441D-8703-0CFB2982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DD9-BD2B-47FF-A7B8-CB9A9D3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5BA-66AD-49DA-AED4-73A0E39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9A4-1FD2-43A6-AE69-7EC38093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2B42-EF8D-40CA-9953-0B0BA0F1A8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2C5F-D9AA-4954-AFCE-1DA24ADD69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ickr.com/photos/irees/46333112/in/photostrea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flickr.com/photos/irees/46333112/in/photostream/" TargetMode="External"/><Relationship Id="rId5" Type="http://schemas.openxmlformats.org/officeDocument/2006/relationships/hyperlink" Target="http://www.flickr.com/photos/irees/46333112/in/photostream/" TargetMode="External"/><Relationship Id="rId6" Type="http://schemas.openxmlformats.org/officeDocument/2006/relationships/hyperlink" Target="http://www.flickr.com/photos/irees/46333112/in/photostream/" TargetMode="External"/><Relationship Id="rId7" Type="http://schemas.openxmlformats.org/officeDocument/2006/relationships/hyperlink" Target="http://www.flickr.com/photos/irees/46333112/in/photostream/" TargetMode="External"/><Relationship Id="rId8" Type="http://schemas.openxmlformats.org/officeDocument/2006/relationships/hyperlink" Target="http://www.flickr.com/photos/irees/46333112/in/photostream/" TargetMode="External"/><Relationship Id="rId9" Type="http://schemas.openxmlformats.org/officeDocument/2006/relationships/hyperlink" Target="http://www.flickr.com/photos/irees/46333112/in/photostream/" TargetMode="External"/><Relationship Id="rId10" Type="http://schemas.openxmlformats.org/officeDocument/2006/relationships/hyperlink" Target="http://www.flickr.com/photos/irees/46333112/in/photostream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ickr.com/photos/rperks1/4116181146/" TargetMode="External"/><Relationship Id="rId2" Type="http://schemas.openxmlformats.org/officeDocument/2006/relationships/hyperlink" Target="http://www.flickr.com/photos/rperks1/4116181146/" TargetMode="External"/><Relationship Id="rId3" Type="http://schemas.openxmlformats.org/officeDocument/2006/relationships/hyperlink" Target="http://www.flickr.com/photos/rperks1/4116181146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Tech AV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Us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198108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9051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7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 for Digital Teac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2514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mmigrant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1981080"/>
            <a:ext cx="2514600" cy="568440"/>
          </a:xfrm>
          <a:prstGeom prst="rect">
            <a:avLst/>
          </a:prstGeom>
          <a:solidFill>
            <a:srgbClr val="67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atives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819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337824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5638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by W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6386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Photo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by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eB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35268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767ff"/>
                </a:solidFill>
                <a:latin typeface="Arial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entral Contr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ut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/Off Volume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witch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209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zed Classroom Con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8006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Image avail. thru 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Flickr</a:t>
            </a:r>
            <a:r>
              <a:rPr b="0" lang="en-US" sz="1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 by rperk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Solutions Clean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81280" y="1904760"/>
            <a:ext cx="5105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dy Laptop Conn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-in-One Media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381040" cy="226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2271600" cy="17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3:03:37Z</dcterms:created>
  <dc:creator>Carol Tracy</dc:creator>
  <dc:description/>
  <dc:language>en-US</dc:language>
  <cp:lastModifiedBy>Carol Tracy</cp:lastModifiedBy>
  <dcterms:modified xsi:type="dcterms:W3CDTF">2010-09-25T03:36:34Z</dcterms:modified>
  <cp:revision>3</cp:revision>
  <dc:subject/>
  <dc:title>High Tech AV  Designing for Usability  </dc:title>
</cp:coreProperties>
</file>