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A2E-FE95-45A2-B838-313DDB11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120-5D4D-4A9F-8A7E-CABCBC1C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93F-88B6-49A4-8743-2041A3A6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D45-CDB8-46F8-A0B9-329D61D1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291C-7713-4A66-9222-49B00B51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11D-0CB3-4DCC-ADF4-7BC3A7D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2BD-3529-450E-94F4-FE03678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E083-14F5-4F60-8E39-4832281A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DEE-2EB5-4A89-BB44-B0473ECC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8DB3-D8FD-4F08-96C9-B956B2D0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DC4B-A2B4-4CD1-B056-09AB5A0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5C9-605D-4F79-A255-CF7A0C4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BF09-9ABD-4E1D-81A9-033AF575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452-9A13-4ADA-BD67-4A443D8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892F-6CBC-4B60-86F1-6AA67E40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0AB-7685-44F1-86A8-08C53BD2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F9D-1606-459E-A15B-83274170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4D0-7849-49DD-8E23-4C28D703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D9D-8A14-455B-88B7-E8CD78D2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6D1-FDE7-453B-9F44-BD95DF2E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2B9-6D6B-4BA9-BC6B-26746B58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A1D-67E2-43B4-8E19-52680A8E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813-758A-4980-8B44-9DDF25C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362-E6B3-45AA-AEF7-67DC0298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0FA9-F716-4393-9B47-915A3C7C3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E043-735B-4592-95A3-339BD7F7CD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irees/46333112/in/photostrea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flickr.com/photos/irees/46333112/in/photostream/" TargetMode="External"/><Relationship Id="rId5" Type="http://schemas.openxmlformats.org/officeDocument/2006/relationships/hyperlink" Target="http://www.flickr.com/photos/irees/46333112/in/photostream/" TargetMode="External"/><Relationship Id="rId6" Type="http://schemas.openxmlformats.org/officeDocument/2006/relationships/hyperlink" Target="http://www.flickr.com/photos/irees/46333112/in/photostream/" TargetMode="External"/><Relationship Id="rId7" Type="http://schemas.openxmlformats.org/officeDocument/2006/relationships/hyperlink" Target="http://www.flickr.com/photos/irees/46333112/in/photostream/" TargetMode="External"/><Relationship Id="rId8" Type="http://schemas.openxmlformats.org/officeDocument/2006/relationships/hyperlink" Target="http://www.flickr.com/photos/irees/46333112/in/photostream/" TargetMode="External"/><Relationship Id="rId9" Type="http://schemas.openxmlformats.org/officeDocument/2006/relationships/hyperlink" Target="http://www.flickr.com/photos/irees/46333112/in/photostream/" TargetMode="External"/><Relationship Id="rId10" Type="http://schemas.openxmlformats.org/officeDocument/2006/relationships/hyperlink" Target="http://www.flickr.com/photos/irees/46333112/in/photostream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perks1/4116181146/" TargetMode="External"/><Relationship Id="rId2" Type="http://schemas.openxmlformats.org/officeDocument/2006/relationships/hyperlink" Target="http://www.flickr.com/photos/rperks1/4116181146/" TargetMode="External"/><Relationship Id="rId3" Type="http://schemas.openxmlformats.org/officeDocument/2006/relationships/hyperlink" Target="http://www.flickr.com/photos/rperks1/4116181146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Tech AV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Us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198108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051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 for Digital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2514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mmigrant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1981080"/>
            <a:ext cx="2514600" cy="568440"/>
          </a:xfrm>
          <a:prstGeom prst="rect">
            <a:avLst/>
          </a:prstGeom>
          <a:solidFill>
            <a:srgbClr val="67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atives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19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3782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5638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by W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6386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by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eB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3526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767ff"/>
                </a:solidFill>
                <a:latin typeface="Arial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entral Contr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u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/Off Volume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witch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09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ed Classroom Con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800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Image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by rperk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lean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81280" y="1904760"/>
            <a:ext cx="5105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y Laptop Conn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-in-One Media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381040" cy="226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2271600" cy="17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03:37Z</dcterms:created>
  <dc:creator>Carol Tracy</dc:creator>
  <dc:description/>
  <dc:language>en-US</dc:language>
  <cp:lastModifiedBy>Carol Tracy</cp:lastModifiedBy>
  <dcterms:modified xsi:type="dcterms:W3CDTF">2010-09-25T03:36:34Z</dcterms:modified>
  <cp:revision>3</cp:revision>
  <dc:subject/>
  <dc:title>High Tech AV  Designing for Usability  </dc:title>
</cp:coreProperties>
</file>