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2C3-65F2-40EB-B048-16CF1817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225-7ECC-4031-AE1F-1871306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99E-11BF-4538-B66C-D8DA01F7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495-CCA0-4072-94E1-C5D794A9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3991-638A-49FB-AC48-68CCDEF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51A-2D88-4F69-8B78-A10BC93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D668-481A-46C3-829C-F3BF9A89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DE7-080F-4238-9D1B-8D2CAD1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A465-FD1C-433F-9047-A203C7D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C18-95A4-4054-BB41-0C26745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5EB8-26F4-4B13-8BA4-60405AA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459-1947-4E24-B741-ED891111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3614-AF93-4BC3-ADD7-E3BC3B9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9AC4-871C-4CF3-ABFC-A7400A8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22B7-65AE-4FC8-A882-E520FD8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043F-505A-4D5D-B1DC-57E6F11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8828-27A0-4FA6-9B73-2317C670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FEC-079E-4F02-800C-93545D37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DEC-CD0B-4D01-AB31-306A6666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0A3-D4F0-4D13-9593-3AB02F42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ABF-D8FA-4C51-8748-79FFDBC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F0C-2D41-421C-914C-12FBCF8B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682-AD0F-4EF2-9A2F-E0CA339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CAC-BD75-4291-940D-6CE5BB0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0C7-2525-4D75-B132-611494AD4D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1C5D-3E5F-4ED9-A1F7-33DF349B9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irees/46333112/in/photostrea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irees/46333112/in/photostream/" TargetMode="External"/><Relationship Id="rId5" Type="http://schemas.openxmlformats.org/officeDocument/2006/relationships/hyperlink" Target="http://www.flickr.com/photos/irees/46333112/in/photostream/" TargetMode="External"/><Relationship Id="rId6" Type="http://schemas.openxmlformats.org/officeDocument/2006/relationships/hyperlink" Target="http://www.flickr.com/photos/irees/46333112/in/photostream/" TargetMode="External"/><Relationship Id="rId7" Type="http://schemas.openxmlformats.org/officeDocument/2006/relationships/hyperlink" Target="http://www.flickr.com/photos/irees/46333112/in/photostream/" TargetMode="External"/><Relationship Id="rId8" Type="http://schemas.openxmlformats.org/officeDocument/2006/relationships/hyperlink" Target="http://www.flickr.com/photos/irees/46333112/in/photostream/" TargetMode="External"/><Relationship Id="rId9" Type="http://schemas.openxmlformats.org/officeDocument/2006/relationships/hyperlink" Target="http://www.flickr.com/photos/irees/46333112/in/photostream/" TargetMode="External"/><Relationship Id="rId10" Type="http://schemas.openxmlformats.org/officeDocument/2006/relationships/hyperlink" Target="http://www.flickr.com/photos/irees/46333112/in/photostrea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perks1/4116181146/" TargetMode="External"/><Relationship Id="rId2" Type="http://schemas.openxmlformats.org/officeDocument/2006/relationships/hyperlink" Target="http://www.flickr.com/photos/rperks1/4116181146/" TargetMode="External"/><Relationship Id="rId3" Type="http://schemas.openxmlformats.org/officeDocument/2006/relationships/hyperlink" Target="http://www.flickr.com/photos/rperks1/4116181146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Tech AV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Us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19810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for Digital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2514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mmigrant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1981080"/>
            <a:ext cx="2514600" cy="56844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atives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19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3782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638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by W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6386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by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eB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767ff"/>
                </a:solidFill>
                <a:latin typeface="Arial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entral Contr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/Off Volume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witch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ed Classroom Con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800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Image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by rperk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lean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19047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y Laptop Conn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-in-One Media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26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2271600" cy="17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03:37Z</dcterms:created>
  <dc:creator>Carol Tracy</dc:creator>
  <dc:description/>
  <dc:language>en-US</dc:language>
  <cp:lastModifiedBy>Carol Tracy</cp:lastModifiedBy>
  <dcterms:modified xsi:type="dcterms:W3CDTF">2010-09-25T03:36:34Z</dcterms:modified>
  <cp:revision>3</cp:revision>
  <dc:subject/>
  <dc:title>High Tech AV  Designing for Usability  </dc:title>
</cp:coreProperties>
</file>